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435-7563-42E9-9FEE-6340DF22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465F-015B-4AF9-98D9-FD822408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D4BA-2FEA-4580-BE78-0A7CD9A5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49C9-E5D8-4AA1-9CE8-EC99DD3E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754-1D25-4AA3-963E-D86065CC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38D-AB6F-45D8-ADD6-CA76C4BA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FE46-9E95-4E55-9655-AC13616B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DA7-7663-463C-A84A-34A9F7B5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AA4-79F0-44B8-9728-A6C07134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5F7-27ED-4E51-8AF0-0D702D40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3CB-0F12-4E3C-BE07-7172D055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035-02E7-41B4-87AE-AF648F2A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4C94-ACC3-4B4A-A538-F20549910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57680" y="577800"/>
            <a:ext cx="540180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hace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24480" y="3651120"/>
            <a:ext cx="369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hech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24520" y="577800"/>
            <a:ext cx="817416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devolve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66760" y="3651120"/>
            <a:ext cx="516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devuel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41840" y="577800"/>
            <a:ext cx="575856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pone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7560" y="3651120"/>
            <a:ext cx="413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pues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59520" y="577800"/>
            <a:ext cx="412632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freí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35680" y="3651120"/>
            <a:ext cx="259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fri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994480" y="577800"/>
            <a:ext cx="270900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oí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25800" y="3651120"/>
            <a:ext cx="271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o</a:t>
            </a:r>
            <a:r>
              <a:rPr b="0" lang="en-US" sz="9600" spc="-1" strike="noStrike">
                <a:solidFill>
                  <a:srgbClr val="660033"/>
                </a:solidFill>
                <a:latin typeface="바탕"/>
                <a:ea typeface="바탕"/>
              </a:rPr>
              <a:t>í</a:t>
            </a: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d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780280" y="577800"/>
            <a:ext cx="374400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lee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97800" y="3651120"/>
            <a:ext cx="298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le</a:t>
            </a:r>
            <a:r>
              <a:rPr b="0" lang="en-US" sz="9600" spc="-1" strike="noStrike">
                <a:solidFill>
                  <a:srgbClr val="660033"/>
                </a:solidFill>
                <a:latin typeface="바탕"/>
                <a:ea typeface="바탕"/>
              </a:rPr>
              <a:t>í</a:t>
            </a: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d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42320" y="577800"/>
            <a:ext cx="417816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cae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1080" y="3651120"/>
            <a:ext cx="325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ca</a:t>
            </a:r>
            <a:r>
              <a:rPr b="0" lang="en-US" sz="9600" spc="-1" strike="noStrike">
                <a:solidFill>
                  <a:srgbClr val="660033"/>
                </a:solidFill>
                <a:latin typeface="바탕"/>
                <a:ea typeface="바탕"/>
              </a:rPr>
              <a:t>í</a:t>
            </a: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d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94760" y="577800"/>
            <a:ext cx="479700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deci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38880" y="3651120"/>
            <a:ext cx="332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dich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91520" y="577800"/>
            <a:ext cx="720648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rompe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120" y="3651120"/>
            <a:ext cx="259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ro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18160" y="577800"/>
            <a:ext cx="707544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escribi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55920" y="3651120"/>
            <a:ext cx="40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escri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07000" y="577800"/>
            <a:ext cx="583776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volve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68040" y="3651120"/>
            <a:ext cx="373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vuel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45240" y="577800"/>
            <a:ext cx="538056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mori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70480" y="3651120"/>
            <a:ext cx="444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muer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68280" y="577800"/>
            <a:ext cx="572184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cubri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7600" y="3651120"/>
            <a:ext cx="495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cubier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68280" y="577800"/>
            <a:ext cx="465840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abri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4680" y="3651120"/>
            <a:ext cx="429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abier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927520" y="577800"/>
            <a:ext cx="3121920" cy="24710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Bodoni MT Black"/>
              </a:rPr>
              <a:t>ver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73320" y="3651120"/>
            <a:ext cx="287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33"/>
                </a:solidFill>
                <a:latin typeface="바탕"/>
              </a:rPr>
              <a:t>vis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17:21Z</dcterms:created>
  <dc:creator>Schaumburg High School</dc:creator>
  <dc:description/>
  <dc:language>en-US</dc:language>
  <cp:lastModifiedBy>Schaumburg High School</cp:lastModifiedBy>
  <dcterms:modified xsi:type="dcterms:W3CDTF">2005-01-28T20:28:20Z</dcterms:modified>
  <cp:revision>3</cp:revision>
  <dc:subject/>
  <dc:title>Slide 1</dc:title>
</cp:coreProperties>
</file>